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390-5A89-4F34-AA72-66007DF7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02F-F78E-43A4-B43F-34B2362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6BE-E620-4B42-8C78-646A92EC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C19-9FB4-41A9-8303-5EA0B95C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D65F-BB0B-4459-9017-FC2CE1AE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7FE8-32CE-4181-9CC1-09CF243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A61-1193-454C-A2F2-CB48988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ECC9-8BED-429F-B0D3-DCF3C49E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D72A-32BA-4FDB-B01D-568560C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5971-9961-4AA5-8961-ADD48585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3CF-EFD9-4195-8D50-06B7C0F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573-80E4-4A63-8B20-6768330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C13-EBEA-45A5-8321-A18FB39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EDAD-B166-4B85-89A4-FA92CFA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7CB-26F0-4B3E-9435-838EC76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1485-589A-471E-AECA-0A188327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0E26-C435-40CE-A0A8-F86EB88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C8E-9B23-4876-B983-5A86F73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674-6D8D-4826-8BD9-73ECDFFF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553-345C-4B6A-95AA-2A26845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1D5-0B2D-4F94-9BE2-E0DEB4D6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EE8-5244-483D-BD6D-C6ADE69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313-D489-418F-AC18-94CF1FD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BE4-7C90-4EFD-87B9-4DE6333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70A-9945-4F3D-AD2E-FB805D47F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4E6F-8FC7-4594-96E9-1E33DFCA6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Lesson #8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Topic: Lab #1 Rotation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familiar with new lab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 to solv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ompare to calculated value fo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181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Mechanics of Rot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8620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b Tas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y that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r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uniform cylinder rotating about a central ax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all types of rota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ll concept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any rotational physics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Lesson #9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Topic: Exam 1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Rotational Exam Revie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The net work done in accelerating a propeller from rest to an angular speed of 220 rad/s is 3000 J. What is the rotational inertia of the propell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dder of length 2.0m and mass 1.0kg is leaning against the wall such that the ladder makes an angle of pi/3 with respect to the floor. With what horizontal force must I exert on the bottom of the ladder to prevent it from slipping and fall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no friction between the ladder and the wall or floo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1.05kg ball on the end of a string is rotated in a horizontal circle of radius 0.9m. Calculate the rotational inertia, and torque needed to maintain a constant angular velocity if air resistance exerts a force of .08N onto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get a flat uniform cylindrical satellite spinning at the correct rate, engineers fire four tangential rockets. If the satellite has a mass of 2600kg and a radius of 3m, what is the required steady force of each rocket if the satellite is to reach 30rpm in 5 m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14800"/>
            <a:ext cx="2666880" cy="23623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5867280" y="50288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895120" y="510516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343400" y="3809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86240" y="6477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665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652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 Matthew Shrader</cp:lastModifiedBy>
  <dcterms:modified xsi:type="dcterms:W3CDTF">2006-09-10T19:23:10Z</dcterms:modified>
  <cp:revision>28</cp:revision>
  <dc:subject/>
  <dc:title>Lesson #1 8/29/06 </dc:title>
</cp:coreProperties>
</file>